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E27-CA1A-4A01-AFCA-67927648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A0D-F553-4DAC-82A7-E11F4A1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24D-2B9E-4B82-8466-D7C81313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14A-B5CF-435E-A858-3DDB7F56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65F-C517-4C82-AD4E-C1B9AF5B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797-2DF2-4B07-9EAC-FE16C3D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C65-A780-4A16-8BED-72D4BEC3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175-0C88-449E-84EB-CD184A0C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DC4-7916-4AE6-8B87-6BC4D32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59B-CE91-4E25-82D4-F518F4B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4FE-5816-4CA6-B834-C92482E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83C-211E-4845-B724-3465CED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44C-2ABC-4E71-A85F-FA0683390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mber the St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is Low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E1E-D119-4CF7-AEAA-47DF4E8C99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Faith - 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fa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one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God created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en Comma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book  -  Torah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Hol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745-01CC-44FC-9465-4E2EF92DD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h Has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New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 in 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to reflect on your actions in the previou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far is pla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’s h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Spiritual Reawa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A35-288A-4956-9BB0-004CB1393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03160"/>
            <a:ext cx="7772400" cy="524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96560" y="659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2BC-CE19-4DF6-BFC3-197E7C8FC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23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4C6-FFE2-4ED5-815B-DC5F15AE8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d prejudice and pers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s banned from holy city of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acred Jew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(14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s driven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A84-FEBC-4C3F-9EB6-583FB194C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ten criticized Jewish belief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viewed Jews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 race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rmany, Adolf Hitler used these myths to create hatred toward the Jew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umanization and hatred lead to killing of the Jews (holocaus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620-CEBC-4742-A7B6-C0BAAAEB6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to control al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kill all Jews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ded many countries including Den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A0B-A2E1-4782-9624-1F685AB79C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59:17Z</dcterms:created>
  <dc:creator>Archer Anita</dc:creator>
  <dc:description/>
  <dc:language>en-US</dc:language>
  <cp:lastModifiedBy>Archer Anita</cp:lastModifiedBy>
  <cp:lastPrinted>2011-05-22T18:14:01Z</cp:lastPrinted>
  <dcterms:modified xsi:type="dcterms:W3CDTF">2011-05-22T18:21:20Z</dcterms:modified>
  <cp:revision>8</cp:revision>
  <dc:subject/>
  <dc:title>Number the Stars</dc:title>
</cp:coreProperties>
</file>